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7F3-1E09-4075-883E-9EC15148F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521-9B6B-4A13-8B79-30ABFF34DAEC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248-4733-4523-A7DE-0E4E9F30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BB4-3BC7-42C5-9DAE-77AA9FC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C89-11C5-4EA0-966B-6BB7F5C7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DA9-949A-4E2A-AECE-FA050D57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6771-5D07-4450-A35E-C6F63621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A064-F0CF-4A73-814A-8FB0DF60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FE71-E8F3-4573-A335-473B80E0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1B8-5691-43AC-8CFA-29B122D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36FE-12CD-4180-932A-90E2274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D07-0241-4DD5-9002-AC87957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46E5-F4EA-4A98-8980-F21BCC28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B3A-A2B3-402E-885A-EF2792B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2CA-C63D-41F9-B496-4CDCDAD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3F3D-3C29-4FE9-A099-A488B05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727-1770-4A4E-BA7D-53AA58E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C86-D12F-42DA-A797-332D26BC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AF45-2CE1-4573-B9AA-C1D39B0A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9D6-401F-421C-AD89-B5324D4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2FE-657D-4297-AFE8-873305CD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B37-781E-4137-B42E-8BF4259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6A7-66AA-447C-A308-DF3E35E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422-B185-4348-B6D0-1484FCA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84E-AD20-448E-81B2-1F9B916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5CA-0D70-404C-9B7D-471BEF76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3ED7-31A9-46D2-BCAF-42C745981DC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1EE7-25B3-4328-A7C4-FBEFF5F017B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udents’ Questioning in the  Secondary Classro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ish 384/58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uly 26, 20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endshow"/>
          </p:cNvPr>
          <p:cNvSpPr/>
          <p:nvPr/>
        </p:nvSpPr>
        <p:spPr>
          <a:xfrm>
            <a:off x="22860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 - Classroom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63960" y="2438280"/>
            <a:ext cx="390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acher dom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er press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es of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f-confid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sure how to ask good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49240" y="2214720"/>
            <a:ext cx="382284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’s Speech 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33526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functional approach of sentenc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onald Wardhaugh, professor emeritu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versity of Toro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Talk and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 (200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cording to Wardhaugh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versations not only make statements, they perform actions in the wor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blish friend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 coop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a foundation for future intera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ative utterances:  “I had a busy day toda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nected with events or happening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hical propositions:  “Thou shalt not kill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e as guidelines to behavior in some world or an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our purpos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erformative utterance:  “I do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only saying but doing something if certain real-world conditions are me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forma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di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ing a verdict, estimate, grade, or apprais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uilty as charged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got an A on your test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erc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rcising of powers, rights, or infl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pronounce you husband and wif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gratulations!  You have just graduated from colleg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ss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mising or undertaking, announcing an in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hereby bequeath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intent to teach the best way I know how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hab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ologizing, congratulating, blessing, cursing, or challeng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pologize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challenge you to learn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os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ers to how one fits an utterance into an argument or ex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, I reply, I assume…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 in favor of my learning outcomes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s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 speech act…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In some way changes the conditions that exist in the world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or example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five years in jail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two hours of detention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Hello.  How are you?”  (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You jerk!”  (not so 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ae Tha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sae" descr=""/>
          <p:cNvPicPr/>
          <p:nvPr/>
        </p:nvPicPr>
        <p:blipFill>
          <a:blip r:embed="rId1"/>
          <a:stretch/>
        </p:blipFill>
        <p:spPr>
          <a:xfrm>
            <a:off x="1363680" y="2214720"/>
            <a:ext cx="2792520" cy="38811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ue/Fa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peech act is neither true nor false in itsel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these claims may be made about its having been d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ymes' components of a speech even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Setting- scene situatio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Participants- Speaker, Receiver, other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Ends- outcomes and goal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ct sequences- form and content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Key- manner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nstrumentalities- Channel, code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Norms- of behavior and interpretatio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Genre- style, e.g. lecture, chat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 says…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09640" y="243828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Once we begin to look at utterances from the point of view of what they do, it is possible to see every utterance as a speech act of one kind or other, that is, as having some functional value which might be quite independent of the actual words used and their grammatical arrangement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ver and Trudgill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Being a listener to speech is not unlike being a detective.  The listener…has to construct, from an assortment of clues, the affective state of the speaker and a profile of his identit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unic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Content Placeholder 5" descr="A Communication Model"/>
          <p:cNvPicPr/>
          <p:nvPr/>
        </p:nvPicPr>
        <p:blipFill>
          <a:blip r:embed="rId1"/>
          <a:stretch/>
        </p:blipFill>
        <p:spPr>
          <a:xfrm>
            <a:off x="1219320" y="228600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final wo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09640" y="3200040"/>
            <a:ext cx="795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ll the world is a stage, and we are the players!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ardha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63960" y="2590920"/>
            <a:ext cx="3903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If good thinkers are good questioners then are good questioners good thinkers?”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King, 1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Picture 2" descr="ridller.jpg image by brigante133"/>
          <p:cNvPicPr/>
          <p:nvPr/>
        </p:nvPicPr>
        <p:blipFill>
          <a:blip r:embed="rId1"/>
          <a:stretch/>
        </p:blipFill>
        <p:spPr>
          <a:xfrm>
            <a:off x="1436760" y="2214720"/>
            <a:ext cx="264636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2590560"/>
            <a:ext cx="79581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Critical Think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"Critical thinking is the intellectually disciplined process of actively and skillfully conceptualizing, applying, analyzing, synthesizing, and/or evaluating information gathered from, or generated by, observation, experience, reflection, reasoning, or communication, as a guide to belief and action”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Scrive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keptical but open-minded              Looks at different points of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alues fair-mindedness                    Respects evidence &amp; reas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spects clarity &amp; precision             Will change positions when reasoning      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ads them to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Picture 4" descr="http://www.bigcheesebadges.com/images/the_riddler.png"/>
          <p:cNvPicPr/>
          <p:nvPr/>
        </p:nvPicPr>
        <p:blipFill>
          <a:blip r:embed="rId1"/>
          <a:stretch/>
        </p:blipFill>
        <p:spPr>
          <a:xfrm>
            <a:off x="44956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www.bigcheesebadges.com/images/the_riddler.png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bigcheesebadges.com/images/the_riddler.png"/>
          <p:cNvPicPr/>
          <p:nvPr/>
        </p:nvPicPr>
        <p:blipFill>
          <a:blip r:embed="rId3"/>
          <a:stretch/>
        </p:blipFill>
        <p:spPr>
          <a:xfrm>
            <a:off x="44956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bigcheesebadges.com/images/the_riddler.png"/>
          <p:cNvPicPr/>
          <p:nvPr/>
        </p:nvPicPr>
        <p:blipFill>
          <a:blip r:embed="rId4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bigcheesebadges.com/images/the_riddler.png"/>
          <p:cNvPicPr/>
          <p:nvPr/>
        </p:nvPicPr>
        <p:blipFill>
          <a:blip r:embed="rId5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bigcheesebadges.com/images/the_riddler.png"/>
          <p:cNvPicPr/>
          <p:nvPr/>
        </p:nvPicPr>
        <p:blipFill>
          <a:blip r:embed="rId6"/>
          <a:stretch/>
        </p:blipFill>
        <p:spPr>
          <a:xfrm>
            <a:off x="838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Build Your Own Critical Think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09640" y="2666520"/>
            <a:ext cx="795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ing How to Ask Ques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stion Stems (refer to handout)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mantics &amp; Synt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ciprocal Peer Questi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ader’s Ques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ference-Style Lear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" descr="http://www.orchardpropertyservices.co.uk/uploads/images/Self%20Build%20House.jpg"/>
          <p:cNvPicPr/>
          <p:nvPr/>
        </p:nvPicPr>
        <p:blipFill>
          <a:blip r:embed="rId1"/>
          <a:stretch/>
        </p:blipFill>
        <p:spPr>
          <a:xfrm>
            <a:off x="5943600" y="3276720"/>
            <a:ext cx="2362320" cy="294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ke Slowinsk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igh School English teac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9640" y="228564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operative Lear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igher achievement &amp; greater produ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ore caring, supportive &amp; committed relationshi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ater psychological health, social competence &amp; self-este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Kaga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4" descr="http://learningandteaching.dal.ca/taguide/Image51.gif"/>
          <p:cNvPicPr/>
          <p:nvPr/>
        </p:nvPicPr>
        <p:blipFill>
          <a:blip r:embed="rId1"/>
          <a:stretch/>
        </p:blipFill>
        <p:spPr>
          <a:xfrm>
            <a:off x="5105520" y="4419720"/>
            <a:ext cx="2971800" cy="16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Kathy\AppData\Local\Microsoft\Windows\Temporary Internet Files\Content.IE5\X2G90D1U\MC900312146[1].wmf"/>
          <p:cNvPicPr/>
          <p:nvPr/>
        </p:nvPicPr>
        <p:blipFill>
          <a:blip r:embed="rId2"/>
          <a:stretch/>
        </p:blipFill>
        <p:spPr>
          <a:xfrm>
            <a:off x="1143000" y="335268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Kathy\AppData\Local\Microsoft\Windows\Temporary Internet Files\Content.IE5\X2G90D1U\MC900312146[1].wmf"/>
          <p:cNvPicPr/>
          <p:nvPr/>
        </p:nvPicPr>
        <p:blipFill>
          <a:blip r:embed="rId3"/>
          <a:stretch/>
        </p:blipFill>
        <p:spPr>
          <a:xfrm>
            <a:off x="1143000" y="297180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Kathy\AppData\Local\Microsoft\Windows\Temporary Internet Files\Content.IE5\X2G90D1U\MC900312146[1].wmf"/>
          <p:cNvPicPr/>
          <p:nvPr/>
        </p:nvPicPr>
        <p:blipFill>
          <a:blip r:embed="rId4"/>
          <a:stretch/>
        </p:blipFill>
        <p:spPr>
          <a:xfrm>
            <a:off x="1143000" y="3733920"/>
            <a:ext cx="56520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iardiello, Angelo. “Did You Ask a Good Question Today? Alternative Cognitive and Metacognitive Strategies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Journal of Adolescent and Adult Literac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42.3 (Nov. 1998): 210-220.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ood, Thomas, Ricky Slavings, Kathleen Hobson Harel, and Hugh Emerson. “Student Passivity: A Study of Question Asking in K-12 Classrooms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Sociology of Education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60 (July 1987): 181-199.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 http://www.harding.edu/dlee/bloom.pdf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gt;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agan, Spencer.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Cooperative Learnin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 San Clemente: Kagan Publishing, 1994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ing, Allison.  “Designing the Instructional Process to Enhance Critical Thinking Across the Curriculum.”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3-17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riven, Michael and Richard Paul.  “Defining Critical Thinking: A Draft Statement for the National Council for Excellence in Critical Thinking.” (1996) Available  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criticalthinking.org/University/univlibrary/library.nclk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 &gt; 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nderwood, Marion K. and Rebecca L. Wald. “Conference-Style Learning: A Method for Fostering Critical Thinking with Heart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7-21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ardhaugh, R. (2008) 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An Introduction to Sociolinguistics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, 5th Edition, Blackwell Publishing, M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orothy Seehaus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osition teac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athy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ment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ers: What are the quality of questions have your students asked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udents: What types of question have you heard in clas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1295640" cy="126828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ation P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’s happening in the classroom (Mik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ain the questions sociologuistically (Doro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 and Strategies(Ka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’s happening in the classroom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863960" y="2437920"/>
            <a:ext cx="3903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s Not Asking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ctronic  Vs. Face-to-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omas Good’s Passivity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cedural Questions Instead of Concept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09640" y="228600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ua</cp:lastModifiedBy>
  <dcterms:modified xsi:type="dcterms:W3CDTF">2010-07-25T15:56:36Z</dcterms:modified>
  <cp:revision>5</cp:revision>
  <dc:subject/>
  <dc:title>The Sociolinguistic Aspects of Students’ Questioning</dc:title>
</cp:coreProperties>
</file>